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5C1DB-E944-49E1-8D42-096C75FFF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14BFF-D5EE-4127-8F31-70A3ABB4A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AAC0A-B85B-48E4-9CAE-6882A11CC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2BBD6-E7CF-45C0-AE90-E7C2B3E22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5B506-7E89-4BF0-BABF-8F1DFF68D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8917B-2626-4A54-9F1F-CC398EAA9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ABFC2-BA95-4EDB-8081-920754DB2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071E6-70D5-4C56-83C3-67297EFDF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E0B60-58FE-462E-B4EA-C6554CC2A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C917D-BD6F-43FF-A1B1-AD1F2C5F9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EA104-F852-4B24-9196-0CD10DCEA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A4652-8595-479F-9F0D-0CE2645A8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AD812-1327-46D9-80EA-5C8AD739CC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cybersafety.org.nz/kit/index.html" TargetMode="External"/><Relationship Id="rId2" Type="http://schemas.openxmlformats.org/officeDocument/2006/relationships/hyperlink" Target="http://landmark-project.com/aup20/pmwiki.php" TargetMode="External"/><Relationship Id="rId3" Type="http://schemas.openxmlformats.org/officeDocument/2006/relationships/hyperlink" Target="http://www.youtube.com/watch?v=5SgWZk7GRLw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../../Documents/AUP%20stuff/Employee%20AUP09.pdf" TargetMode="External"/><Relationship Id="rId2" Type="http://schemas.openxmlformats.org/officeDocument/2006/relationships/hyperlink" Target="file:///../../Documents/AUP%20stuff/USAUP09.doc" TargetMode="External"/><Relationship Id="rId3" Type="http://schemas.openxmlformats.org/officeDocument/2006/relationships/hyperlink" Target="http://schoolcomputing.wikia.com/wiki/Acceptable_Use_Policies" TargetMode="Externa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cybersmartcurriculum.org/home/" TargetMode="External"/><Relationship Id="rId2" Type="http://schemas.openxmlformats.org/officeDocument/2006/relationships/hyperlink" Target="http://www.netsafe.org.nz/" TargetMode="External"/><Relationship Id="rId3" Type="http://schemas.openxmlformats.org/officeDocument/2006/relationships/hyperlink" Target="http://www.netsmartz.org/" TargetMode="External"/><Relationship Id="rId4" Type="http://schemas.openxmlformats.org/officeDocument/2006/relationships/hyperlink" Target="http://www.isafe.org/" TargetMode="External"/><Relationship Id="rId5" Type="http://schemas.openxmlformats.org/officeDocument/2006/relationships/hyperlink" Target="http://www.playitcybersafe.com/curriculum/index.cfm" TargetMode="External"/><Relationship Id="rId6" Type="http://schemas.openxmlformats.org/officeDocument/2006/relationships/hyperlink" Target="http://www.thesolutionsite.com/IRULE/activities.html" TargetMode="External"/><Relationship Id="rId7" Type="http://schemas.openxmlformats.org/officeDocument/2006/relationships/hyperlink" Target="http://www.netalert.net.au/01732-CyberSafe-Schools.asp" TargetMode="External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northfulton.com/Articles-i-2008-04-03-171208.112113_North_Fulton_students_learn_Internet_safety.html" TargetMode="External"/><Relationship Id="rId2" Type="http://schemas.openxmlformats.org/officeDocument/2006/relationships/hyperlink" Target="file:///../../Documents/AUP%20stuff/LVA%20Research%20%20Citation%20Curriculum%202008%20-%202009.doc" TargetMode="External"/><Relationship Id="rId3" Type="http://schemas.openxmlformats.org/officeDocument/2006/relationships/hyperlink" Target="file:///../../Documents/Laptop%20Program/Classroom%20Management%20Tips.ppt" TargetMode="Externa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ffective Internet Safe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35268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898989"/>
                </a:solidFill>
                <a:latin typeface="Calibri"/>
              </a:rPr>
              <a:t>Connie White 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Director of Technology &amp; Media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Lakeview Academ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Gainesville, G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2" descr="C:\Users\connie.white\Pictures\2008-05-02 May12008\May12008 115.JPG"/>
          <p:cNvPicPr/>
          <p:nvPr/>
        </p:nvPicPr>
        <p:blipFill>
          <a:blip r:embed="rId1"/>
          <a:stretch/>
        </p:blipFill>
        <p:spPr>
          <a:xfrm>
            <a:off x="457200" y="609480"/>
            <a:ext cx="816120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vise Each Ye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ssues, Trends and Devices are constantly changing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urriculum is continually revised as new resources become availabl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students, faculty, parents must be brought on boar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cope and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et Resou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304560" y="609480"/>
            <a:ext cx="883908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etSafe Step by Step Guide: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cybersafety.org.nz/kit/index.htm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chool AUP 2.0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landmark-project.com/aup20/pmwiki.ph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ternet Safety Video: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://www.youtube.com/watch?v=5SgWZk7GRLw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yber bullying Video: http://www.youtube.com/watch?v=seOQyMvG99w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chool and Computing  Wiki: http://schoolcomputing.wikia.com/wiki/Acceptable_Use_Polic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yber safety Curriculums:  http://www.familyinternet.info/Teachers_Curriculums.htm#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ducation and Accountability is essentia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4" descr="C:\Users\connie.white\Desktop\school\tech lowerschool\boyengaged.jpg"/>
          <p:cNvPicPr/>
          <p:nvPr/>
        </p:nvPicPr>
        <p:blipFill>
          <a:blip r:embed="rId1"/>
          <a:stretch/>
        </p:blipFill>
        <p:spPr>
          <a:xfrm>
            <a:off x="1600200" y="990720"/>
            <a:ext cx="571824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Effective Internet Safe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mitte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ssess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rame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munic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UP’s Sign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aculty, Parent &amp; Community Train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grate Internet Safety Curriculu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vise Annually - Repe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4" descr="C:\Users\connie.white\Pictures\2008-05-08 May8th2008\May8th2008 001.JPG"/>
          <p:cNvPicPr/>
          <p:nvPr/>
        </p:nvPicPr>
        <p:blipFill>
          <a:blip r:embed="rId1"/>
          <a:stretch/>
        </p:blipFill>
        <p:spPr>
          <a:xfrm>
            <a:off x="4419720" y="1600200"/>
            <a:ext cx="3429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Where Should we Begin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m Committe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afety Coordin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twork Admi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dia Specialis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echnology Tea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urriculum Specialis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an of Discipli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ssessment -Survey staff to determine components currently in plac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76212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rame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UP’s for Employees and Stud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74240" indent="-214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Employe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74240" indent="-214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Upper Schoo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74240" indent="-214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iddle Schoo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74240" indent="-214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ower Schoo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74240" indent="-214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School Computing Wik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twork Security Systems in pla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74240" indent="-214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rus/Spyware Protec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74240" indent="-214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rewall/Internet Filter/Monitoring Syste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74240" indent="-214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ireless Syste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chool Polic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munic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aculty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ud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Faculty &amp; Stud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UP’s Sign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aculty, Parent &amp; Community Train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urrent Issues, Trends &amp; Devi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grate Internet Safety Curriculu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CyberSmar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NetSaf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NetSmartz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iSaf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BSA Play it Cybersaf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iRules Internet Safety R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Net Aler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259092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itional Compon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eSafe Georg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issing” game from Web Wise Ki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dvisor Ethics Vide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Internet Research &amp; Citatio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mputer Applica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deo Produc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aptop Launc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Classroom Manage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C:\Users\connie.white\Documents\E-Safe Georgia\PSC-E safe.jpg"/>
          <p:cNvPicPr/>
          <p:nvPr/>
        </p:nvPicPr>
        <p:blipFill>
          <a:blip r:embed="rId4"/>
          <a:stretch/>
        </p:blipFill>
        <p:spPr>
          <a:xfrm>
            <a:off x="2666880" y="228600"/>
            <a:ext cx="3214800" cy="24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safety.wmv" descr=""/>
          <p:cNvPicPr/>
          <p:nvPr/>
        </p:nvPicPr>
        <p:blipFill>
          <a:blip r:embed="rId1"/>
          <a:stretch/>
        </p:blipFill>
        <p:spPr>
          <a:xfrm>
            <a:off x="533520" y="457200"/>
            <a:ext cx="8248680" cy="618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61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10T17:42:32Z</dcterms:created>
  <dc:creator>Connie White</dc:creator>
  <dc:description/>
  <dc:language>en-US</dc:language>
  <cp:lastModifiedBy>Connie White</cp:lastModifiedBy>
  <dcterms:modified xsi:type="dcterms:W3CDTF">2009-07-24T22:43:13Z</dcterms:modified>
  <cp:revision>58</cp:revision>
  <dc:subject/>
  <dc:title>Effective Internet Safety</dc:title>
</cp:coreProperties>
</file>